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F1C3-FFAC-4A34-A268-7BD014EE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E172-76CC-4DDE-89C7-9E59F424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F677-8F66-487B-AB94-126F7A86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356E-73F9-4EDF-9D57-34B7C663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0704-9354-4A06-AF2E-0D68B78F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5097-CB69-4D56-AAFE-07F3AAAC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73F-4470-47B6-BD72-CCA92814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139E-BCE8-4380-B4C8-83C65604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20C6-EAFA-4D1C-B11B-E4662471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299D-E348-44BF-9730-9E77E455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4BD3-7BDC-4CFD-A8F7-E5581EED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C31-828C-4B77-AE92-850E4370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50FF-EFB2-4681-AD2C-EE36B7A97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in’s rise to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553080" cy="2590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ere the main contenders for power in 192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Stalin deal with them and ultimately win total control of the par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/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brief notes on the key events during each year from the ‘boxing’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just include the key names, dates and events relating to Stalin’s rise to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show clearly how her first turns on Trotsky, then the left and then finally the right of the par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in: most evil men in History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for 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collectivis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ere the Kula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Gula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‘Great Terror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5 of these qualities do you think it is most important for the future leader of the Communist party to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838188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in’s last testament was very critical of Stal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nted it read out at the 12th Party Congress in April 19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wife, Krupskaya kept it secret hoping Lenin would recover and believing it could split the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Lenin’s death she turned it over the Communist Party Central Committee (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ament wasn’t published in full and read out to the party conference as Lenin intended…. So it didn’t have the intended effe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in contenders! - In the Right corn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895400"/>
            <a:ext cx="4784760" cy="39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0" y="1895400"/>
            <a:ext cx="4784760" cy="496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e Left Corn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1690560"/>
            <a:ext cx="5639040" cy="343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752480" y="1690560"/>
            <a:ext cx="5639040" cy="51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in the middl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1752480"/>
            <a:ext cx="2514600" cy="1371600"/>
          </a:xfrm>
          <a:prstGeom prst="wedgeEllipseCallout">
            <a:avLst>
              <a:gd name="adj1" fmla="val -84532"/>
              <a:gd name="adj2" fmla="val 36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the lineu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727200" y="2181240"/>
            <a:ext cx="8191800" cy="38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-457200" y="1981080"/>
            <a:ext cx="10515600" cy="40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 a closer look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 the main contenders amongst the group: take into account the length of the description and how quickly each person is likely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notes in your books on the strengths and weaknesses of your individual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as a group: who is best placed to w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s ou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lwich</cp:lastModifiedBy>
  <dcterms:modified xsi:type="dcterms:W3CDTF">2007-11-20T08:03:24Z</dcterms:modified>
  <cp:revision>5</cp:revision>
  <dc:subject/>
  <dc:title>Stalin’s rise to Power</dc:title>
</cp:coreProperties>
</file>